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8509-E0BE-428E-9570-875D6A5B5E0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DC65-4317-4408-9AD1-FFC8FA37B58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7725-8040-409A-90F4-7A2D382AF24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DDB6-47C3-4294-B514-644B6AA0079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6E2D9-2C97-48FA-92C0-10921F8D0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B0C7E-4019-4E67-A24C-2A8D646C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EBBF5-3BAE-4983-AB1D-E8108D0AA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9D0B6-31C4-43AD-8ACF-016EBE11F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38975D4-F9BA-4D0D-8BEC-C70A085E1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C86E6F-5364-4A4C-9196-1F641D50C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C83FC5-308F-497B-AD13-E0A070099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CA5305-6D36-4BB6-986F-DB49A42BE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D8789E-215B-40B7-A757-1AE29210E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2B4046-D87E-4987-A53D-3D79A805D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0489E2-DE07-4E0E-BDF6-C1E7CDA50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375E6-7698-4F6A-9CD5-573E93408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09DCBA-0310-4022-98B2-DFF2B0B77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B18CB7-9A64-4F30-8046-7A3D6F5F1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4D4641-6606-42CC-B6C5-0A1B6CB11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D8B61AF-1388-4464-A94A-CD5CE5C9E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75314BB-89A2-43BC-B2B8-3E6F905E6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FB1997-54CD-4C34-BCB8-FAEA33F2D3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471A1-D129-4A91-BAD8-AA5C63E9F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07C92-E56F-4147-84F7-5FC36B0F1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3DA63-CFF3-40EB-9CFC-0769418BC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47A05-2882-40B4-B0C1-947AF2955F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EA133-E124-40C3-8940-13E6534C8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24F738-8977-4FBF-8AB2-073AFEFD03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61753-19F9-4B7B-8C89-4C7C9F0E7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A2A1A-8CC9-4BB1-8CBA-FB8091680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2DB8E-1828-4469-BB3F-942499C22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7157F-67CF-4D4F-A61A-2E6137322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FCA495-4A26-4B79-8B79-157CD79244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65C9E8-0DD9-47DC-8C9A-B68FBEB357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D2EFEE15-3C27-4B13-8EB5-667A173D9A5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64EF362-516A-4F1E-9957-5BB13669EF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985E9E6-1F3E-4893-90F7-0696E0748F5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C4305-8577-47A7-9481-0BB8179E0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391E21C-F63C-4128-AB48-7D19FEE13B5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B333892-E699-41D5-812C-72A4568E86B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B4597DC-6837-431F-89D0-0B184A350D0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549C729-C6FB-48EA-BDA7-C51558B9CE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9B6DD8C-69DE-4610-B927-CA42BD15DCF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F84BA90-F1D2-49DF-97CD-06361B8B2E3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AC80BA0-617E-40FE-8DD2-191B4B877C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EF51B27-C16F-43F8-B05B-EB7377E46DA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5BA832A-1D2A-425C-A64E-F3505331BAC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DE95EFC-88E8-45AD-8B18-614F716D3A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E9398-CAB5-4537-9B08-A6F999BDA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61D2E4-2216-4CD8-8589-6E71452A3B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D9F3F5-84F3-49AD-8658-5A12FF305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DB80BF-1638-44C8-8AA9-ED21B0A0C2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D52424-7BD7-4A4F-91BF-4D92B34093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4078177-A9A8-48BD-AF29-D8010849B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232782-5F8C-45EC-BF30-7D9B0014D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5248F3-475E-4BC3-874B-208C4ABB9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1B8913-93BE-47A9-B33D-F0ABCF658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11758CA-3C98-496E-AD40-77B8FD4EAA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AC9938D-2EA9-4EEA-BC06-6F0F10DDE0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DC8DF-ECFA-4600-8353-EB4FDA279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17C3525-B83F-44B6-9C7C-71C634A105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8A6D888-F062-4A62-BF16-94D60039A8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D8746A7-B239-470F-A9C8-91F2431803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AD16644-DAEF-42A3-B16F-52FBEB6E94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CF3E13C-1C25-443E-89CF-5B0CBFDAA7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65D5131-7911-422A-A9F0-A43C7C0E0F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605D9C3-C75E-41C8-8D1D-41D7168734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A2685C-828C-4886-B807-3AA159DEF7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542E7D0-DB7E-4BC7-B436-BA6518B1B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BAA43F9-9BB0-45D5-A208-1547F0D631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F1E12-ED99-4A76-90A6-304075689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F8D4A30-6064-4F30-BA67-B522AAC30C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FD99FA9-D091-4CD0-9680-079F762378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AAE1163-4A43-408D-AD88-8678090C2A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142EA-CC3C-41E8-84C2-9C0F6487A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0CBC8-6A1C-451E-8501-0DF85281D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41BA-7BA2-44A9-8E82-7813DB41485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D581-E8EE-4F6C-B9EB-BF50E8770D6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E918-CC3A-495E-A8CF-C4115F03547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2292-0A7D-45E0-9358-1157380D2A3B}"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DCE8-5251-40AD-9181-B3ADD4F715D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C040-8812-44BA-AC79-27455BECA2D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371600" y="4952520"/>
            <a:ext cx="6400800" cy="6858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By Bella Bailie</a:t>
            </a:r>
            <a:endParaRPr b="0" lang="en-US" sz="2200" spc="-1" strike="noStrike">
              <a:solidFill>
                <a:srgbClr val="ffffff"/>
              </a:solidFill>
              <a:latin typeface="Constantia"/>
            </a:endParaRPr>
          </a:p>
        </p:txBody>
      </p:sp>
      <p:pic>
        <p:nvPicPr>
          <p:cNvPr id="260" name="Title 1" descr=""/>
          <p:cNvPicPr/>
          <p:nvPr/>
        </p:nvPicPr>
        <p:blipFill>
          <a:blip r:embed="rId2"/>
          <a:stretch/>
        </p:blipFill>
        <p:spPr>
          <a:xfrm>
            <a:off x="682560" y="324000"/>
            <a:ext cx="7785000" cy="1535040"/>
          </a:xfrm>
          <a:prstGeom prst="rect">
            <a:avLst/>
          </a:prstGeom>
          <a:ln w="0">
            <a:noFill/>
          </a:ln>
        </p:spPr>
      </p:pic>
      <p:pic>
        <p:nvPicPr>
          <p:cNvPr id="261" name="Picture 2" descr="http://www.joinafrica.com/Country_Rankings/map_of_africa.gif"/>
          <p:cNvPicPr/>
          <p:nvPr/>
        </p:nvPicPr>
        <p:blipFill>
          <a:blip r:embed="rId3"/>
          <a:stretch/>
        </p:blipFill>
        <p:spPr>
          <a:xfrm>
            <a:off x="2362320" y="1752480"/>
            <a:ext cx="390528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457200" y="1600200"/>
            <a:ext cx="4114800" cy="452592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s is a country in Africa. It is a very poor country in some parts but in others it is very rich. There are school just like here in America. Mostly boys, however, attend school because the girls are busy at work all day. </a:t>
            </a:r>
            <a:endParaRPr b="0" lang="en-US" sz="2600" spc="-1" strike="noStrike">
              <a:solidFill>
                <a:srgbClr val="ffffff"/>
              </a:solidFill>
              <a:latin typeface="Constantia"/>
            </a:endParaRPr>
          </a:p>
        </p:txBody>
      </p:sp>
      <p:pic>
        <p:nvPicPr>
          <p:cNvPr id="263" name="Title 1" descr=""/>
          <p:cNvPicPr/>
          <p:nvPr/>
        </p:nvPicPr>
        <p:blipFill>
          <a:blip r:embed="rId2"/>
          <a:stretch/>
        </p:blipFill>
        <p:spPr>
          <a:xfrm>
            <a:off x="219240" y="146160"/>
            <a:ext cx="8474040" cy="1231920"/>
          </a:xfrm>
          <a:prstGeom prst="rect">
            <a:avLst/>
          </a:prstGeom>
          <a:ln w="0">
            <a:noFill/>
          </a:ln>
        </p:spPr>
      </p:pic>
      <p:pic>
        <p:nvPicPr>
          <p:cNvPr id="264" name="Picture 2" descr="http://en.18dao.net/images/4/49/Map-Democratic_Republic_of_the_Congo.jpg"/>
          <p:cNvPicPr/>
          <p:nvPr/>
        </p:nvPicPr>
        <p:blipFill>
          <a:blip r:embed="rId3"/>
          <a:stretch/>
        </p:blipFill>
        <p:spPr>
          <a:xfrm>
            <a:off x="4648320" y="1752480"/>
            <a:ext cx="3790800" cy="36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txBox="1"/>
          <p:nvPr/>
        </p:nvSpPr>
        <p:spPr>
          <a:xfrm>
            <a:off x="5105520" y="1600200"/>
            <a:ext cx="3581280" cy="4572000"/>
          </a:xfrm>
          <a:prstGeom prst="rect">
            <a:avLst/>
          </a:prstGeom>
          <a:noFill/>
          <a:ln w="0">
            <a:noFill/>
          </a:ln>
        </p:spPr>
        <p:txBody>
          <a:bodyPr lIns="90000" rIns="90000" tIns="46800" bIns="46800" anchor="t">
            <a:normAutofit fontScale="93000"/>
          </a:bodyPr>
          <a:p>
            <a:pPr marL="253440" indent="-2534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fe is very dangerous in Liberia. The speaker came from a very poor part of this country where people would buy dogs to protect their families from lions. Everyone in the families had to work. Some parts of Liberia, however, can be very rich.</a:t>
            </a:r>
            <a:endParaRPr b="0" lang="en-US" sz="2600" spc="-1" strike="noStrike">
              <a:solidFill>
                <a:srgbClr val="ffffff"/>
              </a:solidFill>
              <a:latin typeface="Constantia"/>
            </a:endParaRPr>
          </a:p>
        </p:txBody>
      </p:sp>
      <p:pic>
        <p:nvPicPr>
          <p:cNvPr id="266" name="Title 1" descr=""/>
          <p:cNvPicPr/>
          <p:nvPr/>
        </p:nvPicPr>
        <p:blipFill>
          <a:blip r:embed="rId2"/>
          <a:stretch/>
        </p:blipFill>
        <p:spPr>
          <a:xfrm>
            <a:off x="219240" y="146160"/>
            <a:ext cx="8474040" cy="1231920"/>
          </a:xfrm>
          <a:prstGeom prst="rect">
            <a:avLst/>
          </a:prstGeom>
          <a:ln w="0">
            <a:noFill/>
          </a:ln>
        </p:spPr>
      </p:pic>
      <p:pic>
        <p:nvPicPr>
          <p:cNvPr id="267" name="Picture 2" descr="http://farm1.static.flickr.com/229/479226568_43bf31cd2a.jpg"/>
          <p:cNvPicPr/>
          <p:nvPr/>
        </p:nvPicPr>
        <p:blipFill>
          <a:blip r:embed="rId3"/>
          <a:stretch/>
        </p:blipFill>
        <p:spPr>
          <a:xfrm>
            <a:off x="304920" y="1905120"/>
            <a:ext cx="4762440" cy="345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457200" y="1599840"/>
            <a:ext cx="8229600" cy="205740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Uganda is a very poor country in Africa. Everyone must work for food, shelter, and safety for their family. Music and arts, such as poetry, are very popular in Uganda. The speaker from Uganda performed an interactive song on the drums. It was very entertaining and said a lot about Uganda’s culture.</a:t>
            </a:r>
            <a:endParaRPr b="0" lang="en-US" sz="2400" spc="-1" strike="noStrike">
              <a:solidFill>
                <a:srgbClr val="ffffff"/>
              </a:solidFill>
              <a:latin typeface="Constantia"/>
            </a:endParaRPr>
          </a:p>
        </p:txBody>
      </p:sp>
      <p:pic>
        <p:nvPicPr>
          <p:cNvPr id="269" name="Title 1" descr=""/>
          <p:cNvPicPr/>
          <p:nvPr/>
        </p:nvPicPr>
        <p:blipFill>
          <a:blip r:embed="rId2"/>
          <a:stretch/>
        </p:blipFill>
        <p:spPr>
          <a:xfrm>
            <a:off x="219240" y="146160"/>
            <a:ext cx="8474040" cy="1231920"/>
          </a:xfrm>
          <a:prstGeom prst="rect">
            <a:avLst/>
          </a:prstGeom>
          <a:ln w="0">
            <a:noFill/>
          </a:ln>
        </p:spPr>
      </p:pic>
      <p:pic>
        <p:nvPicPr>
          <p:cNvPr id="270" name="Picture 2" descr="http://harlotssauce.com/wp-content/uploads/2010/12/Uganda-Flag1.gif"/>
          <p:cNvPicPr/>
          <p:nvPr/>
        </p:nvPicPr>
        <p:blipFill>
          <a:blip r:embed="rId3"/>
          <a:stretch/>
        </p:blipFill>
        <p:spPr>
          <a:xfrm>
            <a:off x="457200" y="3784680"/>
            <a:ext cx="4114800" cy="2739960"/>
          </a:xfrm>
          <a:prstGeom prst="rect">
            <a:avLst/>
          </a:prstGeom>
          <a:ln w="0">
            <a:noFill/>
          </a:ln>
        </p:spPr>
      </p:pic>
      <p:pic>
        <p:nvPicPr>
          <p:cNvPr id="271" name="Picture 4" descr="http://www.eaequatorialadventures.com/images/Map-of-Uganda1.jpg"/>
          <p:cNvPicPr/>
          <p:nvPr/>
        </p:nvPicPr>
        <p:blipFill>
          <a:blip r:embed="rId4"/>
          <a:stretch/>
        </p:blipFill>
        <p:spPr>
          <a:xfrm>
            <a:off x="4876920" y="3171960"/>
            <a:ext cx="3724200" cy="36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txBox="1"/>
          <p:nvPr/>
        </p:nvSpPr>
        <p:spPr>
          <a:xfrm>
            <a:off x="4800240" y="228240"/>
            <a:ext cx="3962520" cy="624852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frica, in some parts, is not modernized at all. This makes living conditions very unfavorable. People that live in certain countries, such as Congo, Uganda, or Liberia, face hardships everyday. Life in Africa is very different from life here in the United States. Most children from the US cannot even imagine the lives of children in Africa</a:t>
            </a:r>
            <a:endParaRPr b="0" lang="en-US" sz="2600" spc="-1" strike="noStrike">
              <a:solidFill>
                <a:srgbClr val="ffffff"/>
              </a:solidFill>
              <a:latin typeface="Constantia"/>
            </a:endParaRPr>
          </a:p>
        </p:txBody>
      </p:sp>
      <p:pic>
        <p:nvPicPr>
          <p:cNvPr id="273" name="Title 1" descr=""/>
          <p:cNvPicPr/>
          <p:nvPr/>
        </p:nvPicPr>
        <p:blipFill>
          <a:blip r:embed="rId2"/>
          <a:stretch/>
        </p:blipFill>
        <p:spPr>
          <a:xfrm>
            <a:off x="828720" y="225360"/>
            <a:ext cx="5730840" cy="1152720"/>
          </a:xfrm>
          <a:prstGeom prst="rect">
            <a:avLst/>
          </a:prstGeom>
          <a:ln w="0">
            <a:noFill/>
          </a:ln>
        </p:spPr>
      </p:pic>
      <p:pic>
        <p:nvPicPr>
          <p:cNvPr id="274" name="Picture 2" descr="http://www.etftrends.com/wp-content/uploads/2010/09/fertility_clinics_africa.jpg"/>
          <p:cNvPicPr/>
          <p:nvPr/>
        </p:nvPicPr>
        <p:blipFill>
          <a:blip r:embed="rId3"/>
          <a:stretch/>
        </p:blipFill>
        <p:spPr>
          <a:xfrm>
            <a:off x="304920" y="1905120"/>
            <a:ext cx="4610160" cy="36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10:30:52Z</dcterms:created>
  <dc:creator>bailie</dc:creator>
  <dc:description/>
  <dc:language>en-US</dc:language>
  <cp:lastModifiedBy>WAC</cp:lastModifiedBy>
  <dcterms:modified xsi:type="dcterms:W3CDTF">2011-05-19T17:22:18Z</dcterms:modified>
  <cp:revision>3</cp:revision>
  <dc:subject/>
  <dc:title>Student Ambassador Program Project- Africa</dc:title>
</cp:coreProperties>
</file>